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53B-5ED2-4A6A-BE0A-1B872355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F6F-4C20-4723-8C01-E271C0B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1B1-9CA8-457F-91CF-19E81408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5BC-CF25-4869-A6B7-ED781BF4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CB8-5C20-4F7E-A78F-0039521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545-8538-4FC3-BDC6-FFA0496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3FE-358F-498F-8B78-4C225F3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B73-C3AD-4754-A9D1-3F381B4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D08-2E0E-4310-A67A-199B9CD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F28-4679-48D3-ABCA-88A49ED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4B3-9916-473F-B913-982994E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BE5-580A-4448-9040-071689D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80B2-7D06-43BC-99DA-794962D91A6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ather.com/glossary/w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y Weather Forecast for Stillwater, O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 Meghan Kaif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rrent Weather Conditions for February 23, 2009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Temperature: 48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-Wind chill: 42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Humidity: 38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Wind: SE 15-21 m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Precipitation: 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Humidity: the amount of water vapor in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the more water vapor, the stickier it feels out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Wind chill: the calculation of temperature that takes into account the w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more wind=a colder day in the win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weather.com/glossary/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1"/>
              </a:rPr>
              <a:t>http://www.weather.com/glossary/w.htm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5 Day Foreca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927000"/>
          <a:ext cx="7543800" cy="57787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r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olated Thunder St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t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Why is this information important to a weather forecast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How does the weather forecast affect the local weather and climate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5Z</dcterms:created>
  <dc:creator>Meghan Kaifes</dc:creator>
  <dc:description/>
  <dc:language>en-US</dc:language>
  <cp:lastModifiedBy>Oklahoma State University</cp:lastModifiedBy>
  <dcterms:modified xsi:type="dcterms:W3CDTF">2009-02-24T15:24:17Z</dcterms:modified>
  <cp:revision>7</cp:revision>
  <dc:subject/>
  <dc:title>My Weather Forecast for Stillwater, OK</dc:title>
</cp:coreProperties>
</file>